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D8C-7AA4-4BD0-A294-0DFFFEE3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85A-2067-47A7-ACEB-64EE406B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7CE-5ED7-4679-A1A1-C79268E6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139-AF3A-441A-8B29-376973B8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245-4714-4332-B53F-19819324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999-2E9A-40A3-994B-FC713C8B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076-F2E3-44FF-A80A-165F1B6B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BDE-5BF7-4273-A82F-7DAEF20C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AE72-C188-4473-A2E7-71E7EB16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3D0-759D-4D17-BA31-9B336387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3FB-7D53-4038-B474-C3684AF1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8BF2-80CE-4B3B-96B0-D68BE597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DD83-3B60-4F14-BBBA-82D205485F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GI/GMOD Update 9/0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l Richard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di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4375" t="16001" r="30002" b="25602"/>
          <a:stretch/>
        </p:blipFill>
        <p:spPr>
          <a:xfrm>
            <a:off x="1219320" y="762120"/>
            <a:ext cx="6781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tra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4375" t="18401" r="30002" b="18401"/>
          <a:stretch/>
        </p:blipFill>
        <p:spPr>
          <a:xfrm>
            <a:off x="1752480" y="304920"/>
            <a:ext cx="55627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ren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3752" t="20000" r="36878" b="29601"/>
          <a:stretch/>
        </p:blipFill>
        <p:spPr>
          <a:xfrm>
            <a:off x="2666880" y="914400"/>
            <a:ext cx="3581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ap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1251" t="28002" r="18751" b="14402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qdb_eng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ramework for building and maintaining customized blastable datab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by MGI to build the MouseBLAST set of databases (19 external, 25 intern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class framework for filtering and routing sequence 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 processing based on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wor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 change in GenBank release proce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ndling for external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s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le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838080"/>
            <a:ext cx="7467840" cy="5105160"/>
            <a:chOff x="838080" y="838080"/>
            <a:chExt cx="7467840" cy="5105160"/>
          </a:xfrm>
        </p:grpSpPr>
        <p:sp>
          <p:nvSpPr>
            <p:cNvPr id="47" name=""/>
            <p:cNvSpPr/>
            <p:nvPr/>
          </p:nvSpPr>
          <p:spPr>
            <a:xfrm>
              <a:off x="7162920" y="2424600"/>
              <a:ext cx="1143000" cy="68976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u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RN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38880" y="4218480"/>
              <a:ext cx="1067040" cy="75888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um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RN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838080" y="1320480"/>
              <a:ext cx="6095880" cy="4553280"/>
              <a:chOff x="838080" y="1320480"/>
              <a:chExt cx="6095880" cy="4553280"/>
            </a:xfrm>
          </p:grpSpPr>
          <p:sp>
            <p:nvSpPr>
              <p:cNvPr id="50" name=""/>
              <p:cNvSpPr/>
              <p:nvPr/>
            </p:nvSpPr>
            <p:spPr>
              <a:xfrm>
                <a:off x="2869920" y="2099160"/>
                <a:ext cx="1151280" cy="5986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802240" y="2158920"/>
                <a:ext cx="115164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869920" y="132048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802240" y="1380240"/>
                <a:ext cx="1151640" cy="598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38080" y="2338920"/>
                <a:ext cx="115128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R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38080" y="341712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T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38080" y="509508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34560" y="144000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734560" y="2219040"/>
                <a:ext cx="115128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38080" y="144000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R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734560" y="305784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34560" y="377676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34560" y="455580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34560" y="527472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57040" y="167976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057040" y="2518560"/>
                <a:ext cx="609480" cy="5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2057040" y="3416760"/>
                <a:ext cx="609480" cy="23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57040" y="3776760"/>
                <a:ext cx="609480" cy="119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057040" y="4915080"/>
                <a:ext cx="609480" cy="41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57040" y="5454360"/>
                <a:ext cx="609480" cy="5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4902120" y="2279160"/>
                <a:ext cx="1151280" cy="1197720"/>
                <a:chOff x="4902120" y="2279160"/>
                <a:chExt cx="1151280" cy="1197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902120" y="2279160"/>
                  <a:ext cx="1151280" cy="3992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902120" y="2678400"/>
                  <a:ext cx="1151280" cy="399240"/>
                </a:xfrm>
                <a:prstGeom prst="rect">
                  <a:avLst/>
                </a:prstGeom>
                <a:solidFill>
                  <a:srgbClr val="ff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902120" y="3077640"/>
                  <a:ext cx="1151280" cy="3992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902120" y="4136400"/>
                <a:ext cx="1151280" cy="1198080"/>
                <a:chOff x="4902120" y="4136400"/>
                <a:chExt cx="1151280" cy="11980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902120" y="4136400"/>
                  <a:ext cx="1151280" cy="3992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902120" y="4535640"/>
                  <a:ext cx="1151280" cy="399600"/>
                </a:xfrm>
                <a:prstGeom prst="rect">
                  <a:avLst/>
                </a:prstGeom>
                <a:solidFill>
                  <a:srgbClr val="ff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902120" y="4935240"/>
                  <a:ext cx="1151280" cy="3992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750840" y="1799640"/>
                <a:ext cx="1083240" cy="59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18160" y="2578680"/>
                <a:ext cx="1083600" cy="155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3953880" y="2818080"/>
                <a:ext cx="880200" cy="53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953880" y="3297240"/>
                <a:ext cx="880200" cy="155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53880" y="4076640"/>
                <a:ext cx="880200" cy="53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3953880" y="5094720"/>
                <a:ext cx="880200" cy="479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89120" y="28782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189120" y="4675680"/>
                <a:ext cx="744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2286000" y="118260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4400" y="838080"/>
              <a:ext cx="7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840" y="83808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19720" y="118260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77120" y="125172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4680" y="83808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ss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87600" y="60357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88040" y="6035760"/>
            <a:ext cx="17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7280" y="603576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3280" y="6035760"/>
            <a:ext cx="137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qu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: Gene Expression Notebo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ab-notebook application for managing gene expressio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ys, reagents,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ic data submission to GX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ed in 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on ports to Win 2000, Mac OS/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l ain’t so cross-platform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us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tology Browser/Annotation Vie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al proposal: reimplement MGI’s text-based browser in Java, then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browsers already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prototyping work at MG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phical displays (using AT&amp;T GraphVi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to SGD’s TermFi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lan: release the prototyp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s: soon (core libraries ready to g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otype GO Annotation Vie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15376"/>
          <a:stretch/>
        </p:blipFill>
        <p:spPr>
          <a:xfrm>
            <a:off x="533520" y="228600"/>
            <a:ext cx="804852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gf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8593" r="25113" b="4619"/>
          <a:stretch/>
        </p:blipFill>
        <p:spPr>
          <a:xfrm>
            <a:off x="1143000" y="228600"/>
            <a:ext cx="6553080" cy="6364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4191120" y="304776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Set: 78 ge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9376" t="23656" r="2344" b="5375"/>
          <a:stretch/>
        </p:blipFill>
        <p:spPr>
          <a:xfrm>
            <a:off x="533520" y="533520"/>
            <a:ext cx="8610480" cy="5029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7543800" y="365724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un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2357" t="18183" r="5698" b="6362"/>
          <a:stretch/>
        </p:blipFill>
        <p:spPr>
          <a:xfrm>
            <a:off x="0" y="76320"/>
            <a:ext cx="8915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20:35:57Z</dcterms:created>
  <dc:creator>jer</dc:creator>
  <dc:description/>
  <dc:language>en-US</dc:language>
  <cp:lastModifiedBy>jer</cp:lastModifiedBy>
  <dcterms:modified xsi:type="dcterms:W3CDTF">2003-09-15T14:11:20Z</dcterms:modified>
  <cp:revision>14</cp:revision>
  <dc:subject/>
  <dc:title>PowerPoint Presentation</dc:title>
</cp:coreProperties>
</file>